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03D-835A-4D93-A023-AA40CF8C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749-641E-466E-AC39-57B60996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F92-1103-4748-BE72-10789586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82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9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54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82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509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8BF-DCAA-4497-B273-6AADFD6C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4ED0-5E62-4FFD-8BFB-FFC32706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BB4E-58B1-4D43-9BAE-3228DA56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2A56-1921-4224-BFD3-8CF35F09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671F-85D0-41BC-9E79-04273F8C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3E71-97F9-4B4A-915A-63D39405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E3C5-C46C-4EA3-ABC7-7186DB9D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C156-0093-4B5D-A2D4-15E184B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852-A94D-48D6-A8AB-F8A0CB67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6F24-ADB8-4996-9BD2-1CBB64A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EE19-9ADB-4CD5-B5A8-9F4E5475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6E50-A9BE-4614-992A-DA18A2CB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F06A-963E-4F86-A0E9-4BE324FF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82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09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54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882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09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89EE-4E7B-42B1-8E8A-EA79E8B4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7DE-F36B-4100-AA57-AB50CDD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92E-CA05-4E12-BA79-7BA5E003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592-546D-4D76-8D7E-2CF9266B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9AA-E49D-44F8-AE32-73253401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3C0-E80C-46DA-A44E-88B34E7B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36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2C6-A7FF-4D35-BD80-3D7BE1E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4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36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4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710-1401-4C53-85AC-6BC69FCB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22400" y="131760"/>
              <a:ext cx="709560" cy="8254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240" y="2817720"/>
              <a:ext cx="733320" cy="98100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6320" y="2073240"/>
              <a:ext cx="990360" cy="58896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120680"/>
              <a:ext cx="803160" cy="746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53920" y="700200"/>
              <a:ext cx="812880" cy="8078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728640" y="3720960"/>
              <a:ext cx="803160" cy="746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757080" y="4578480"/>
              <a:ext cx="709920" cy="8254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77760" y="3873600"/>
              <a:ext cx="649440" cy="9856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70120" y="-20520"/>
              <a:ext cx="696600" cy="62856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-17640" y="4954680"/>
              <a:ext cx="814680" cy="7826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03360" y="5497560"/>
              <a:ext cx="812520" cy="8078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119240" y="6075360"/>
              <a:ext cx="814320" cy="7826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-4680" y="5935680"/>
              <a:ext cx="534960" cy="56340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62080" y="6311880"/>
              <a:ext cx="676080" cy="5414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999D-9273-44B6-A0E0-7BE9AE120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-17640" y="-20520"/>
            <a:ext cx="9160200" cy="6878520"/>
            <a:chOff x="-17640" y="-20520"/>
            <a:chExt cx="9160200" cy="6878520"/>
          </a:xfrm>
        </p:grpSpPr>
        <p:sp>
          <p:nvSpPr>
            <p:cNvPr id="59" name="Rectangle 3"/>
            <p:cNvSpPr/>
            <p:nvPr/>
          </p:nvSpPr>
          <p:spPr>
            <a:xfrm>
              <a:off x="1600200" y="0"/>
              <a:ext cx="7542360" cy="68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0" y="0"/>
              <a:ext cx="1447920" cy="6324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122400" y="131760"/>
              <a:ext cx="709560" cy="8254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30240" y="2817720"/>
              <a:ext cx="733320" cy="98100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76320" y="2073240"/>
              <a:ext cx="990360" cy="58896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1120680"/>
              <a:ext cx="803160" cy="746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853920" y="700200"/>
              <a:ext cx="812880" cy="8078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728640" y="3720960"/>
              <a:ext cx="803160" cy="746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757080" y="4578480"/>
              <a:ext cx="709920" cy="8254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77760" y="3873600"/>
              <a:ext cx="649440" cy="9856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870120" y="-20520"/>
              <a:ext cx="696600" cy="62856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-17640" y="4954680"/>
              <a:ext cx="814680" cy="7826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603360" y="5497560"/>
              <a:ext cx="812520" cy="8078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1119240" y="6075360"/>
              <a:ext cx="814320" cy="7826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-4680" y="5935680"/>
              <a:ext cx="534960" cy="56340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262080" y="6311880"/>
              <a:ext cx="676080" cy="54144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005c7a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54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124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67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108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F8DB-6497-4173-9BA0-BC93CCCC26F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The Main Elements of Fiction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117" name="Picture 3" descr="PE00551_"/>
          <p:cNvPicPr/>
          <p:nvPr/>
        </p:nvPicPr>
        <p:blipFill>
          <a:blip r:embed="rId1"/>
          <a:stretch/>
        </p:blipFill>
        <p:spPr>
          <a:xfrm>
            <a:off x="2209680" y="2057400"/>
            <a:ext cx="4149720" cy="38149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4">
            <a:hlinkClick r:id="rId2" action="ppaction://hlinksldjump"/>
          </p:cNvPr>
          <p:cNvSpPr/>
          <p:nvPr/>
        </p:nvSpPr>
        <p:spPr>
          <a:xfrm>
            <a:off x="3733920" y="22860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4724280" y="21337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943600" y="25146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095880" y="32004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arac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791320" y="4267080"/>
            <a:ext cx="1904760" cy="381240"/>
          </a:xfrm>
          <a:custGeom>
            <a:avLst/>
            <a:gdLst>
              <a:gd name="textAreaLeft" fmla="*/ 24480 w 1904760"/>
              <a:gd name="textAreaRight" fmla="*/ 1880280 w 1904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07837" h="21600">
                <a:moveTo>
                  <a:pt x="0" y="0"/>
                </a:moveTo>
                <a:lnTo>
                  <a:pt x="107837" y="0"/>
                </a:lnTo>
                <a:lnTo>
                  <a:pt x="107837" y="21600"/>
                </a:lnTo>
                <a:lnTo>
                  <a:pt x="0" y="21600"/>
                </a:lnTo>
                <a:close/>
              </a:path>
              <a:path fill="lightenLess" w="107837" h="21600">
                <a:moveTo>
                  <a:pt x="0" y="0"/>
                </a:moveTo>
                <a:lnTo>
                  <a:pt x="107837" y="0"/>
                </a:lnTo>
                <a:lnTo>
                  <a:pt x="106437" y="1400"/>
                </a:lnTo>
                <a:lnTo>
                  <a:pt x="1400" y="1400"/>
                </a:lnTo>
                <a:close/>
              </a:path>
              <a:path fill="darken" w="107837" h="21600">
                <a:moveTo>
                  <a:pt x="107837" y="0"/>
                </a:moveTo>
                <a:lnTo>
                  <a:pt x="107837" y="21600"/>
                </a:lnTo>
                <a:lnTo>
                  <a:pt x="106437" y="20200"/>
                </a:lnTo>
                <a:lnTo>
                  <a:pt x="106437" y="1400"/>
                </a:lnTo>
                <a:close/>
              </a:path>
              <a:path fill="darkenLess" w="107837" h="21600">
                <a:moveTo>
                  <a:pt x="107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37" y="20200"/>
                </a:lnTo>
                <a:close/>
              </a:path>
              <a:path fill="lighten" w="107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Why must we study the elements of fiction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54240" y="609480"/>
            <a:ext cx="7051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Elements of fiction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work like a puzzle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to put together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a story or novel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Plot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Plot is </a:t>
            </a: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what happens in the story</a:t>
            </a: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Some call it the </a:t>
            </a: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storyline</a:t>
            </a: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.</a:t>
            </a: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AutoShape 4">
            <a:hlinkClick r:id="" action="ppaction://hlinkshowjump?jump=firstslide"/>
          </p:cNvPr>
          <p:cNvSpPr/>
          <p:nvPr/>
        </p:nvSpPr>
        <p:spPr>
          <a:xfrm>
            <a:off x="8229600" y="6095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Theme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It’s the </a:t>
            </a: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moral or main idea</a:t>
            </a:r>
            <a:r>
              <a:rPr b="1" i="1" lang="en-US" sz="4000" spc="-1" strike="noStrike">
                <a:solidFill>
                  <a:srgbClr val="eaeaea"/>
                </a:solidFill>
                <a:latin typeface="Comic Sans MS"/>
              </a:rPr>
              <a:t> of the story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AutoShape 4">
            <a:hlinkClick r:id="" action="ppaction://hlinkshowjump?jump=firstslide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Character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eaeaea"/>
                </a:solidFill>
                <a:latin typeface="Comic Sans MS"/>
              </a:rPr>
              <a:t>The </a:t>
            </a:r>
            <a:r>
              <a:rPr b="1" i="1" lang="en-US" sz="3400" spc="-1" strike="noStrike">
                <a:solidFill>
                  <a:srgbClr val="ffff00"/>
                </a:solidFill>
                <a:latin typeface="Comic Sans MS"/>
              </a:rPr>
              <a:t>main character</a:t>
            </a:r>
            <a:r>
              <a:rPr b="1" i="1" lang="en-US" sz="3400" spc="-1" strike="noStrike">
                <a:solidFill>
                  <a:srgbClr val="eaeaea"/>
                </a:solidFill>
                <a:latin typeface="Comic Sans MS"/>
              </a:rPr>
              <a:t> in a story is called the </a:t>
            </a:r>
            <a:r>
              <a:rPr b="1" i="1" lang="en-US" sz="3400" spc="-1" strike="noStrike">
                <a:solidFill>
                  <a:srgbClr val="ffff00"/>
                </a:solidFill>
                <a:latin typeface="Comic Sans MS"/>
              </a:rPr>
              <a:t>protagonist</a:t>
            </a:r>
            <a:r>
              <a:rPr b="1" i="1" lang="en-US" sz="3400" spc="-1" strike="noStrike">
                <a:solidFill>
                  <a:srgbClr val="eaeaea"/>
                </a:solidFill>
                <a:latin typeface="Comic Sans MS"/>
              </a:rPr>
              <a:t>.  She or he is always involved in the main conflict and its resolution.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Comic Sans MS"/>
              </a:rPr>
              <a:t>The 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person working against the protagonist</a:t>
            </a:r>
            <a:r>
              <a:rPr b="1" lang="en-US" sz="3400" spc="-1" strike="noStrike">
                <a:solidFill>
                  <a:srgbClr val="eaeaea"/>
                </a:solidFill>
                <a:latin typeface="Comic Sans MS"/>
              </a:rPr>
              <a:t> is called the 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antagonist</a:t>
            </a:r>
            <a:r>
              <a:rPr b="1" lang="en-US" sz="3400" spc="-1" strike="noStrike">
                <a:solidFill>
                  <a:srgbClr val="eaeaea"/>
                </a:solidFill>
                <a:latin typeface="Comic Sans MS"/>
              </a:rPr>
              <a:t>.</a:t>
            </a:r>
            <a:r>
              <a:rPr b="1" i="1" lang="en-US" sz="34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AutoShape 4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Setting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The setting provides us with the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when</a:t>
            </a:r>
            <a:r>
              <a:rPr b="1" i="1" lang="en-US" sz="32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and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where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 the story took place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In addition, the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context or historical background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 in which the story is set provides us with additional plot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Point of View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First Person: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  The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narrator tells the story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is a character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 in the story. </a:t>
            </a:r>
            <a:r>
              <a:rPr b="1" i="1" lang="en-US" sz="3000" spc="-1" strike="noStrike">
                <a:solidFill>
                  <a:srgbClr val="eaeaea"/>
                </a:solidFill>
                <a:latin typeface="Comic Sans MS"/>
              </a:rPr>
              <a:t>(Pronouns:  I, me, us, we, our, etc.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Person:  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rrator is not a character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 in the story bu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tell you the thoughts and actions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characters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. </a:t>
            </a: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(Pronouns:  he, she, him, her, they, them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Theme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writer’s message, or main point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, is the theme of his or her literary work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Looking for a theme helps you look more deeply into the literature and makes for more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njoyable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 reading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You will need to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Comic Sans MS"/>
              </a:rPr>
              <a:t>infer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what the theme is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 from the work’s title, key scenes, characters, symbols, and plot event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22:42:42Z</dcterms:created>
  <dc:creator>csifreak</dc:creator>
  <dc:description/>
  <dc:language>en-US</dc:language>
  <cp:lastModifiedBy>ITEC Department</cp:lastModifiedBy>
  <dcterms:modified xsi:type="dcterms:W3CDTF">2011-01-21T21:38:01Z</dcterms:modified>
  <cp:revision>6</cp:revision>
  <dc:subject/>
  <dc:title>Elements of Fiction</dc:title>
</cp:coreProperties>
</file>